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C20-3658-4DF7-8AB2-994C5753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599-0B3F-4554-919D-2AFA3000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149-010E-4B31-B993-40D934EF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2F3-F512-4A82-9DE4-480E1636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964-F71B-454D-9338-3E74822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B79-8CDD-4F04-BE6D-1F2768FD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0C0-F705-49DC-A7C2-53217714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41D-85C7-4E7F-8C8E-4BAC93A7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1F1-6B33-4C8F-8218-56867CBA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0D8-0F53-4C4A-B81D-3AA0EEF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F50-AFAB-4FF0-AD7E-0CC662F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421-A36A-4B41-9C0F-AD16467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7651-94A4-4DE0-B62A-98437875C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9"/>
          <p:cNvGrpSpPr/>
          <p:nvPr/>
        </p:nvGrpSpPr>
        <p:grpSpPr>
          <a:xfrm>
            <a:off x="3990960" y="2612880"/>
            <a:ext cx="1162080" cy="1632240"/>
            <a:chOff x="3990960" y="2612880"/>
            <a:chExt cx="1162080" cy="1632240"/>
          </a:xfrm>
        </p:grpSpPr>
        <p:pic>
          <p:nvPicPr>
            <p:cNvPr id="42" name="矩形 8" descr=""/>
            <p:cNvPicPr/>
            <p:nvPr/>
          </p:nvPicPr>
          <p:blipFill>
            <a:blip r:embed="rId1"/>
            <a:stretch/>
          </p:blipFill>
          <p:spPr>
            <a:xfrm>
              <a:off x="4137840" y="2612880"/>
              <a:ext cx="1015200" cy="16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矩形 7" descr=""/>
            <p:cNvPicPr/>
            <p:nvPr/>
          </p:nvPicPr>
          <p:blipFill>
            <a:blip r:embed="rId2"/>
            <a:stretch/>
          </p:blipFill>
          <p:spPr>
            <a:xfrm>
              <a:off x="3990960" y="2612880"/>
              <a:ext cx="1015200" cy="163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6"/>
          <p:cNvGrpSpPr/>
          <p:nvPr/>
        </p:nvGrpSpPr>
        <p:grpSpPr>
          <a:xfrm>
            <a:off x="4013280" y="2612880"/>
            <a:ext cx="1117440" cy="1632240"/>
            <a:chOff x="4013280" y="2612880"/>
            <a:chExt cx="1117440" cy="1632240"/>
          </a:xfrm>
        </p:grpSpPr>
        <p:pic>
          <p:nvPicPr>
            <p:cNvPr id="45" name="矩形 4" descr=""/>
            <p:cNvPicPr/>
            <p:nvPr/>
          </p:nvPicPr>
          <p:blipFill>
            <a:blip r:embed="rId1"/>
            <a:stretch/>
          </p:blipFill>
          <p:spPr>
            <a:xfrm>
              <a:off x="4163760" y="2622600"/>
              <a:ext cx="96696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矩形 3" descr=""/>
            <p:cNvPicPr/>
            <p:nvPr/>
          </p:nvPicPr>
          <p:blipFill>
            <a:blip r:embed="rId2"/>
            <a:stretch/>
          </p:blipFill>
          <p:spPr>
            <a:xfrm>
              <a:off x="4013280" y="2612880"/>
              <a:ext cx="1004400" cy="163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5"/>
          <p:cNvGrpSpPr/>
          <p:nvPr/>
        </p:nvGrpSpPr>
        <p:grpSpPr>
          <a:xfrm>
            <a:off x="4000680" y="2606760"/>
            <a:ext cx="1143000" cy="1644480"/>
            <a:chOff x="4000680" y="2606760"/>
            <a:chExt cx="1143000" cy="1644480"/>
          </a:xfrm>
        </p:grpSpPr>
        <p:pic>
          <p:nvPicPr>
            <p:cNvPr id="48" name="矩形 3" descr=""/>
            <p:cNvPicPr/>
            <p:nvPr/>
          </p:nvPicPr>
          <p:blipFill>
            <a:blip r:embed="rId1"/>
            <a:stretch/>
          </p:blipFill>
          <p:spPr>
            <a:xfrm>
              <a:off x="4125960" y="2606760"/>
              <a:ext cx="1017720" cy="163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矩形 4" descr=""/>
            <p:cNvPicPr/>
            <p:nvPr/>
          </p:nvPicPr>
          <p:blipFill>
            <a:blip r:embed="rId2"/>
            <a:stretch/>
          </p:blipFill>
          <p:spPr>
            <a:xfrm>
              <a:off x="4000680" y="2675880"/>
              <a:ext cx="979560" cy="157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6"/>
          <p:cNvGrpSpPr/>
          <p:nvPr/>
        </p:nvGrpSpPr>
        <p:grpSpPr>
          <a:xfrm>
            <a:off x="4013280" y="2612880"/>
            <a:ext cx="1117440" cy="1632240"/>
            <a:chOff x="4013280" y="2612880"/>
            <a:chExt cx="1117440" cy="1632240"/>
          </a:xfrm>
        </p:grpSpPr>
        <p:pic>
          <p:nvPicPr>
            <p:cNvPr id="51" name="矩形 4" descr=""/>
            <p:cNvPicPr/>
            <p:nvPr/>
          </p:nvPicPr>
          <p:blipFill>
            <a:blip r:embed="rId1"/>
            <a:stretch/>
          </p:blipFill>
          <p:spPr>
            <a:xfrm>
              <a:off x="4163760" y="2622600"/>
              <a:ext cx="96696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矩形 3" descr=""/>
            <p:cNvPicPr/>
            <p:nvPr/>
          </p:nvPicPr>
          <p:blipFill>
            <a:blip r:embed="rId2"/>
            <a:stretch/>
          </p:blipFill>
          <p:spPr>
            <a:xfrm>
              <a:off x="4013280" y="2612880"/>
              <a:ext cx="1004400" cy="163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9:02:55Z</dcterms:created>
  <dc:creator>许翱翔</dc:creator>
  <dc:description/>
  <dc:language>en-US</dc:language>
  <cp:lastModifiedBy>许翱翔</cp:lastModifiedBy>
  <dcterms:modified xsi:type="dcterms:W3CDTF">2009-02-14T09:32:49Z</dcterms:modified>
  <cp:revision>1</cp:revision>
  <dc:subject/>
  <dc:title>幻灯片 1</dc:title>
</cp:coreProperties>
</file>