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119-5AD0-4C0C-BFC0-D8C0A746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60B-DD43-46B3-B245-14490C7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A60-899F-49DF-9D56-35FD6827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428-F511-4389-9F6B-AE2B3A9D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2A3-D91C-4E52-A3DF-27610AE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08D-1913-40E9-9561-2AE3F5DB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EC0-BDC3-4DCE-8942-873260EF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F5A-083A-4A59-AB92-1317693C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A90-F8FD-43C6-840D-08FD37F0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63D-2216-4B7C-94EA-FE9A80B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746-C9B7-4FE8-BF70-9BFD85C8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918-D4FD-483F-B94E-C38CE407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2230-3ECE-460A-8A45-C22107A4A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676520"/>
            <a:ext cx="7238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好！欢迎参加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本实验分为三部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首先进行第一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继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81280" y="2514600"/>
            <a:ext cx="4572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09680" y="2133720"/>
            <a:ext cx="45720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%&amp;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%&amp;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600200"/>
            <a:ext cx="5715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部分中，屏幕中央将呈现一系列汉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你在看到汉字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迅速的判断它是否是左右结构的汉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果是左右结构的，请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Z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果不是左右结构的，请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M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比如，“助”是左右结构，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Z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国”不是左右结构，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我们先练习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开始练习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4600" y="213372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练习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我们将开始第一部分的正式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准备好后，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205740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做的很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现在可以稍作休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休息好后，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90920" y="1295280"/>
            <a:ext cx="54864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部分实验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将开始第二部分的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从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连续减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并请报出每次的运算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意请尽量快速的报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实验人员告诉你停止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下空格键继续下部分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121932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二部分实验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将开始第三部分的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屏幕中将非常快速的呈现一系列汉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你在看到汉字后，立即大声读出这个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实验人员会记录你的读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们先来练习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213372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练习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我们将开始第三部分的正式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准备好后，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57600" y="25146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实验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再次感谢你的参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1280" y="2514600"/>
            <a:ext cx="45720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5-04T11:50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