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701E-30BE-4D22-87F1-3CF248B83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40AF-2AE3-490A-A2F3-3AC87AF1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946B-0B85-421A-99E8-BAEC48B85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8469-1569-47EC-B2E9-5A50FE7BC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3FC3-448B-42E6-9BCA-B345912D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A1D7-705D-419C-A013-7691E653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AC2B-78A3-4360-B615-BADE6745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CC26-7890-4179-9B02-DA33E6C1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7E2D-98E1-479A-92AA-2F82A46A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DF89-9BC4-4BAA-9513-D985DD6F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7AE9-E3D4-40D6-B8E4-02C59592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C541-4B83-4CC5-9009-8CA1A3A0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212F-C7CE-4981-A444-864170BE2F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1523880"/>
            <a:ext cx="5715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你好！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欢迎参加我们的实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在实验过程中，屏幕中将呈现一系列汉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你的任务是每当看到一个汉字，都大声的朗读出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汉字呈现分为两部分，两部分中间你会有一次休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所有汉字都呈现完后，将有一份纸笔填写的文字任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准备好后，请按空格键开始实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2666880"/>
            <a:ext cx="3429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下面请休息一下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休息好后请按空格键继续实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236232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汉字呈现部分结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下面将由工作人员安排您完成纸笔的文字任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按空格键结束本部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057400" y="30481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09-05-04T10:23:57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