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F5E9-1106-4CFC-B08D-54D47CBA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165-E74E-4DAA-AF57-0EB0DA2A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1EC-AFF6-48D2-B63F-12A4A0FF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B00-C1B8-4717-9AF3-4ACC5D00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2EB-F1AA-4082-8999-31B51FC9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5F6-2BB2-4AC5-A3A3-7ED91893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59A-40F1-486B-BC8F-8A3BEE3B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5D3-876D-4D3F-88F5-4435FB9B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CCE-C5E4-418E-82B0-CD0B7D18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2F1-2243-42C2-B5E6-6FBE1E76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959-113E-4ADC-8430-2C441710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B43-E884-431D-8C69-6B80BDFD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D229-53DE-4FD9-BCD4-C4B8C3D404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676520"/>
            <a:ext cx="72388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你好！欢迎参加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本实验分为三部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首先进行第一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按空格键继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581280" y="2514600"/>
            <a:ext cx="4572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09680" y="2133720"/>
            <a:ext cx="457200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%&amp;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￥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%&amp;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1600200"/>
            <a:ext cx="571500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一部分中，屏幕中央将呈现一系列汉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你在看到汉字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迅速的判断它是否是左右结构的汉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如果是左右结构的，请按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Z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如果不是左右结构的，请按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M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比如，“助”是左右结构，按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Z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国”不是左右结构，按“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我们先练习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按空格键开始练习实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14600" y="2133720"/>
            <a:ext cx="45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练习结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我们将开始第一部分的正式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准备好后，请按空格键继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2057400"/>
            <a:ext cx="45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你做的很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现在可以稍作休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休息好后，请按空格键继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90920" y="1295280"/>
            <a:ext cx="54864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一部分实验结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将开始第二部分的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从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连续减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并请报出每次的运算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注意请尽量快速的报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当实验人员告诉你停止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按下空格键继续下部分实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19520" y="1219320"/>
            <a:ext cx="45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二部分实验结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将开始第三部分的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屏幕中将非常快速的呈现一系列汉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你在看到汉字后，立即大声读出这个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实验人员会记录你的读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们先来练习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按空格键继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14600" y="2133720"/>
            <a:ext cx="45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练习结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面我们将开始第三部分的正式实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准备好后，请按空格键继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657600" y="251460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实验结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再次感谢你的参与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1280" y="2514600"/>
            <a:ext cx="457200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5-04T11:50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