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28E-6F89-4F58-B59B-DC96EE09F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1F7-8AB9-4C50-A1C8-414899A4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FEF-B15F-482C-A753-500DD7FE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DC0-26D6-47A9-99B2-26C86B96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B89-65AA-4A9E-A244-94A51A12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C09-5EC4-4B22-8A80-3E9238C0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82F-3352-4C10-905F-FB6F8F9D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91E-FFD5-4F66-AB78-692BC7E0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88D-67C7-4395-AB5E-F7BC6A2E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999-BC14-44C0-8139-845F7FC7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8BF-E1A1-48E7-BF3E-11822161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733-3BF8-4766-A9E0-ECE2F2D5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E381-F2C8-4801-877E-349493BA8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523880"/>
            <a:ext cx="57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你好！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欢迎参加我们的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实验过程中，屏幕中将呈现一系列汉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你的任务是每当看到一个汉字，都大声的朗读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汉字呈现分为两部分，两部分中间你会有一次休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所有汉字都呈现完后，将有一份纸笔填写的文字任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准备好后，请按空格键开始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2666880"/>
            <a:ext cx="3429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请休息一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休息好后请按空格键继续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23623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汉字呈现部分结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将由工作人员安排您完成纸笔的文字任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按空格键结束本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57400" y="30481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5-04T10:23:5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